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CED8-98AA-4DD1-B15D-B1371A9F6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97E-E327-42C3-B9F9-B7BC7FA6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3980-A7E8-41C5-AD76-4A004AEF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27BA-5484-4D13-B011-41CCB2CA8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374E5-9B1B-4DC5-8A31-149D7FFF9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6B84-971D-4EAC-B514-A73729AB7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D6DED-9977-48D3-A176-A98498E2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4AF5-C6C0-4344-9EB3-F85C753D1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721A-C3C4-42CE-ADB3-A841671D3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ACA04-379D-4B3B-B1B3-60776387F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4B17-F9F6-4474-8043-3CA90A42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6040-D5AA-41E2-A0A4-7329D8B1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2BA1C-5576-4CEF-A614-B4BB8919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3793-C3C6-405B-B429-C777E12E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BC49-89E8-45F4-A756-468F7533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39AB-29E1-4A21-825D-888B36DA2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E1F29-F451-4463-AC31-58D72C8B3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8747-472D-4913-A492-631E62229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C397-5C82-405F-9942-A6BF42EB9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4AA-B99E-4A86-BD18-3253D675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9A4C-5E07-42C1-9137-9BE61918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CCC6-A61F-4312-BBBA-B2F467EC0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3CD3-FFE9-4E48-8C5B-EF1F4528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D92-2002-43EB-AF14-35024AC6C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C8A22-4F49-46A5-B0E4-78A1A3C49368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2445-6652-4457-BEE0-A3F9444CE00A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r>
              <a:rPr b="0" lang="en-US" sz="3400" spc="-1" strike="noStrike">
                <a:solidFill>
                  <a:srgbClr val="ffffff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14600" y="22860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Global near-surface temperatures have increased by 0.7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1.3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relative to the period 1860</a:t>
            </a:r>
            <a:r>
              <a:rPr b="0" lang="en-US" sz="2500" spc="-1" strike="noStrike">
                <a:solidFill>
                  <a:srgbClr val="ffffff"/>
                </a:solidFill>
                <a:latin typeface="Lucida Grande"/>
              </a:rPr>
              <a:t>�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1900, according to the instrumental temperature record. The urban heat island effect is estimated to account for about 0.0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of warming since 1900. Since 1979, land temperatures have increased about twice as fast as ocean temperatures (0.2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 against 0.13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). Temperatures in the lower troposphere have increased between 0.12 and 0.2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0.22 and 0.4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per decade since 1979, according to satellite temperature measureme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65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1T17:46:58Z</dcterms:modified>
  <cp:revision>2</cp:revision>
  <dc:subject/>
  <dc:title>Global Warming</dc:title>
</cp:coreProperties>
</file>